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1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31.png" ContentType="image/png"/>
  <Override PartName="/ppt/media/image36.png" ContentType="image/png"/>
  <Override PartName="/ppt/media/image43.jpeg" ContentType="image/jpeg"/>
  <Override PartName="/ppt/media/image35.png" ContentType="image/png"/>
  <Override PartName="/ppt/media/image56.jpeg" ContentType="image/jpeg"/>
  <Override PartName="/ppt/media/image33.png" ContentType="image/pn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52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41D1-8C2B-4666-9704-6DB7967234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EF27-2D4F-42EC-90CB-514F05AEA5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270F-C83D-4270-BE58-E4B01C6C5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7E0-F98F-4F71-B4FC-10F7DAF4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9D2-F090-4847-9843-3BD2C218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2288-EAD5-4097-8D50-1732F647B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7106-A462-46B0-9ECB-97375CA0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0F2-3173-47DD-83A7-67234C7D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FD6-6972-42DE-818C-11001054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975-0838-4674-9ACA-D7E780C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2AF-0055-4323-8C8B-03E94C5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5EB-446C-4D5E-9C5F-02646C95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9B7A-9DA9-433A-B635-513BB0C3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9926-0DC0-438B-87EE-706EBB86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B1AB-D4A1-4832-826C-01E42B264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hka-i.narod.ru/photo48.jpg" TargetMode="External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ushkin.niv.ru/images/mesta/mesta_12_3.jpg" TargetMode="External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25.jpeg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image" Target="../media/image59.jpeg"/><Relationship Id="rId8" Type="http://schemas.openxmlformats.org/officeDocument/2006/relationships/image" Target="../media/image50.jpeg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olstopuzzzz.narod.ru/photo/osen/img_4275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071013144031.jpg"/>
          <p:cNvPicPr/>
          <p:nvPr/>
        </p:nvPicPr>
        <p:blipFill>
          <a:blip r:embed="rId2"/>
          <a:stretch/>
        </p:blipFill>
        <p:spPr>
          <a:xfrm>
            <a:off x="214200" y="42876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1" descr="slide0018_image066"/>
          <p:cNvPicPr/>
          <p:nvPr/>
        </p:nvPicPr>
        <p:blipFill>
          <a:blip r:embed="rId2"/>
          <a:stretch/>
        </p:blipFill>
        <p:spPr>
          <a:xfrm>
            <a:off x="214200" y="857160"/>
            <a:ext cx="364968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slide0018_image068"/>
          <p:cNvPicPr/>
          <p:nvPr/>
        </p:nvPicPr>
        <p:blipFill>
          <a:blip r:embed="rId3"/>
          <a:stretch/>
        </p:blipFill>
        <p:spPr>
          <a:xfrm>
            <a:off x="4643280" y="857160"/>
            <a:ext cx="3714840" cy="27892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6"/>
          <p:cNvSpPr/>
          <p:nvPr/>
        </p:nvSpPr>
        <p:spPr>
          <a:xfrm>
            <a:off x="3857760" y="3857760"/>
            <a:ext cx="5286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каждой комнате – железная кровать, комод, конторка, зеркало, стул, стол для умывания, вместе и ночной. На конторке чернильница и подсвечник со щипцами…»       И.И.Пущин.Записки о Пушк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1681920" y="214200"/>
            <a:ext cx="57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</a:rPr>
              <a:t>Комната Александра Пу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Documents and Settings\Admin\Рабочий стол\Пушкин\delvig_a_p_h170.jpg"/>
          <p:cNvPicPr/>
          <p:nvPr/>
        </p:nvPicPr>
        <p:blipFill>
          <a:blip r:embed="rId2"/>
          <a:stretch/>
        </p:blipFill>
        <p:spPr>
          <a:xfrm>
            <a:off x="285840" y="1000080"/>
            <a:ext cx="2520720" cy="285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Documents and Settings\Admin\Рабочий стол\Пушкин\puschin_i_i_h170.jpg"/>
          <p:cNvPicPr/>
          <p:nvPr/>
        </p:nvPicPr>
        <p:blipFill>
          <a:blip r:embed="rId3"/>
          <a:stretch/>
        </p:blipFill>
        <p:spPr>
          <a:xfrm>
            <a:off x="6572160" y="1000080"/>
            <a:ext cx="2333880" cy="28004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214200" y="392904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Антон Анто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Дельвиг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6637680" y="3857760"/>
            <a:ext cx="222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Иван Иван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Пущи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831960" y="214200"/>
            <a:ext cx="741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Близкие друзья Пушкина по Лице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892080" y="5500800"/>
            <a:ext cx="732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Пушкин сохранил лицейскую др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и культ Лицея на всю жиз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"/>
          <p:cNvPicPr/>
          <p:nvPr/>
        </p:nvPicPr>
        <p:blipFill>
          <a:blip r:embed="rId4"/>
          <a:stretch/>
        </p:blipFill>
        <p:spPr>
          <a:xfrm>
            <a:off x="3429000" y="1500120"/>
            <a:ext cx="2462040" cy="293868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3198960" y="4500720"/>
            <a:ext cx="289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Вильгельм Карлови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Кюхельбеке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16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616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1160"/>
                            </p:stCondLst>
                            <p:childTnLst>
                              <p:par>
                                <p:cTn id="2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616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116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616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116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3"/>
          <p:cNvSpPr/>
          <p:nvPr/>
        </p:nvSpPr>
        <p:spPr>
          <a:xfrm>
            <a:off x="214200" y="46432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В 1815 г. Пушкин с триумфом прочел на экзамене свое стихотворение "Воспоминание в Царском Селе" в присутствии знаменитого поэта Г.Р.Державина. Срок пребывания в лицее кончился летом 1817 г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9 июня состоялись выпускные эк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" descr="C:\Documents and Settings\Admin\Рабочий стол\Пушкин\pushkin_02.jpg"/>
          <p:cNvPicPr/>
          <p:nvPr/>
        </p:nvPicPr>
        <p:blipFill>
          <a:blip r:embed="rId2"/>
          <a:stretch/>
        </p:blipFill>
        <p:spPr>
          <a:xfrm>
            <a:off x="714240" y="357120"/>
            <a:ext cx="7623360" cy="431964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1487880" y="0"/>
            <a:ext cx="61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"Пушкин в Царском Селе", картина И. Репина, 19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3"/>
          <p:cNvSpPr/>
          <p:nvPr/>
        </p:nvSpPr>
        <p:spPr>
          <a:xfrm>
            <a:off x="4143240" y="0"/>
            <a:ext cx="478656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Лицей заменил Пушкину детство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Лицей был закончен - детство прошло. Началась жизнь. Пушкин переехал в Петербург и поступил в коллегию иностранных дел в чине коллежского секретаря, но служба мало интересовала его. Он увлекался театром, балами, стал участником разных литературных обществ, завел много знакомст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Documents and Settings\Admin\Рабочий стол\пушкин1\pushkin1.jpg"/>
          <p:cNvPicPr/>
          <p:nvPr/>
        </p:nvPicPr>
        <p:blipFill>
          <a:blip r:embed="rId2"/>
          <a:stretch/>
        </p:blipFill>
        <p:spPr>
          <a:xfrm>
            <a:off x="214200" y="500040"/>
            <a:ext cx="39340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14200" y="321480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В первые годы по окончании Лицея им были написаны стихотворения "Деревня," "Домовому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« К Чаадаеву", ода "Вольность", поэма "Руслан и Людмил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mhtml:file://C:\Documents%20and%20Settings\Admin\Рабочий%20стол\пушкин1\Яндекс.Картинки_%20михайловское3.mht!http://eshka-i.narod.ru/photo48.jpg"/>
          <p:cNvPicPr/>
          <p:nvPr/>
        </p:nvPicPr>
        <p:blipFill>
          <a:blip r:embed="rId2"/>
          <a:stretch/>
        </p:blipFill>
        <p:spPr>
          <a:xfrm>
            <a:off x="214200" y="214200"/>
            <a:ext cx="4611960" cy="307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E:\новое\новое\pushkin_32.jpg"/>
          <p:cNvPicPr/>
          <p:nvPr/>
        </p:nvPicPr>
        <p:blipFill>
          <a:blip r:embed="rId3"/>
          <a:stretch/>
        </p:blipFill>
        <p:spPr>
          <a:xfrm>
            <a:off x="3714840" y="3429000"/>
            <a:ext cx="5257800" cy="322884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4857840" y="214200"/>
            <a:ext cx="407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Сразу после окончания Лицея в 1817 году, и вторично в 1819 г. после тяжелой болезни Пушкин приезжал в имение матери с.Михайловское Псковской губер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"/>
                            </p:stCondLst>
                            <p:childTnLst>
                              <p:par>
                                <p:cTn id="3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3"/>
          <p:cNvSpPr/>
          <p:nvPr/>
        </p:nvSpPr>
        <p:spPr>
          <a:xfrm>
            <a:off x="3929040" y="500040"/>
            <a:ext cx="500076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Идеи гражданской свободы нашли отражение и в стихах, и в поведении юного Пушкина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</a:rPr>
              <a:t>"Пушкина надобно сослать в Сибирь: он наводнил Россию возмутительными стихами; вся молодежь наизусть их читает" - таково было решение царя Александра I. Хлопотами друзей вместо Сибири Пушкина сослали на юг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C:\Documents and Settings\Admin\Рабочий стол\пушкин1\pushkin-sea_big_46587152778.jpg"/>
          <p:cNvPicPr/>
          <p:nvPr/>
        </p:nvPicPr>
        <p:blipFill>
          <a:blip r:embed="rId2"/>
          <a:stretch/>
        </p:blipFill>
        <p:spPr>
          <a:xfrm>
            <a:off x="142920" y="357120"/>
            <a:ext cx="38606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3429000" y="214200"/>
            <a:ext cx="5357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За три года ссылки написаны "Кавказский пленник" , "Бахчисарайский фонтан" , а также "Узник", "Песнь о Вещем Олеге». Начат роман в стихах "Евгений Онегин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" descr="E:\новое\новое\pushkin_10.jpg"/>
          <p:cNvPicPr/>
          <p:nvPr/>
        </p:nvPicPr>
        <p:blipFill>
          <a:blip r:embed="rId2"/>
          <a:stretch/>
        </p:blipFill>
        <p:spPr>
          <a:xfrm>
            <a:off x="285840" y="214200"/>
            <a:ext cx="3071880" cy="3019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214200" y="414324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В конце ию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824 года ссылка в родительское имение Михайловское Псковской губер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Documents and Settings\Admin\Рабочий стол\Пушкин\pushkin_26.jpg"/>
          <p:cNvPicPr/>
          <p:nvPr/>
        </p:nvPicPr>
        <p:blipFill>
          <a:blip r:embed="rId3"/>
          <a:stretch/>
        </p:blipFill>
        <p:spPr>
          <a:xfrm>
            <a:off x="3714840" y="2500200"/>
            <a:ext cx="4976640" cy="36100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7"/>
          <p:cNvSpPr/>
          <p:nvPr/>
        </p:nvSpPr>
        <p:spPr>
          <a:xfrm>
            <a:off x="3571920" y="6072120"/>
            <a:ext cx="53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Пушкин в селе Михайлов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(Пущин у Пушкина). Н.Н. Ге. 1875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719640" y="33577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Автопорт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Картинка 19 из 13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714240"/>
            <a:ext cx="4000680" cy="30956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214200" y="500076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 имением своей матери селом Михайловским в Псковской губернии Александр Сергеевич Пушкин был связан на протяжении всей своей зрелой жизни - с 1817 по 1836 г.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4286160" y="214200"/>
            <a:ext cx="46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од вашу сен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Михайловские рощ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влялся 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огда вы в первый р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видели меня, тогда я был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селым юнош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спечно, жад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Я приступал лиш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олько к жизни; - год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омчалися - и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о мне прия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Усталого пришель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9"/>
          <p:cNvSpPr/>
          <p:nvPr/>
        </p:nvSpPr>
        <p:spPr>
          <a:xfrm>
            <a:off x="963360" y="3929040"/>
            <a:ext cx="23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3"/>
          <p:cNvSpPr/>
          <p:nvPr/>
        </p:nvSpPr>
        <p:spPr>
          <a:xfrm>
            <a:off x="5357880" y="214200"/>
            <a:ext cx="3571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Bookman Old Style"/>
              </a:rPr>
              <a:t>Утром и днем Пушкин обычно работал, потом уезжал верхом или уходил в  село Тригорское, где жили соседи, с которыми он был хорошо знако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Тригорско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200" y="214200"/>
            <a:ext cx="5038920" cy="328608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214200" y="4000680"/>
            <a:ext cx="87156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А вечерами, когда за окном выла вьюга, он снова, как в детстве, слушал нянины сказки и песни. Вот как поэт писал брату в письме: «Знаешь ли мои занятия? До обеда  пишу записки, после обеда езжу верхом, вечером слушаю сказки… Что за прелесть эти сказки! Каждая из них поэма!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7"/>
          <p:cNvSpPr/>
          <p:nvPr/>
        </p:nvSpPr>
        <p:spPr>
          <a:xfrm>
            <a:off x="1744560" y="350028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Тригор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3"/>
          <p:cNvSpPr/>
          <p:nvPr/>
        </p:nvSpPr>
        <p:spPr>
          <a:xfrm>
            <a:off x="214200" y="207180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Настоящим кладом была для Пушкина каждая сказка его доброй и самобытно талантливой няни Арины Родионовны. "Он все с ней, коли дома", вспоминали дворовые люди с. Михайловского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Многие ее сказки Пушкин использовал впоследствии как сюжеты собственных сказок ( в стихах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bojar1i"/>
          <p:cNvPicPr/>
          <p:nvPr/>
        </p:nvPicPr>
        <p:blipFill>
          <a:blip r:embed="rId2"/>
          <a:stretch/>
        </p:blipFill>
        <p:spPr>
          <a:xfrm>
            <a:off x="428760" y="214200"/>
            <a:ext cx="2487600" cy="1857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carevn1i"/>
          <p:cNvPicPr/>
          <p:nvPr/>
        </p:nvPicPr>
        <p:blipFill>
          <a:blip r:embed="rId3"/>
          <a:stretch/>
        </p:blipFill>
        <p:spPr>
          <a:xfrm>
            <a:off x="3571920" y="214200"/>
            <a:ext cx="1785960" cy="1895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carevni"/>
          <p:cNvPicPr/>
          <p:nvPr/>
        </p:nvPicPr>
        <p:blipFill>
          <a:blip r:embed="rId4"/>
          <a:stretch/>
        </p:blipFill>
        <p:spPr>
          <a:xfrm>
            <a:off x="642960" y="4214880"/>
            <a:ext cx="2160720" cy="2405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Riba1i"/>
          <p:cNvPicPr/>
          <p:nvPr/>
        </p:nvPicPr>
        <p:blipFill>
          <a:blip r:embed="rId5"/>
          <a:stretch/>
        </p:blipFill>
        <p:spPr>
          <a:xfrm>
            <a:off x="6215040" y="214200"/>
            <a:ext cx="2462400" cy="1838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salt3i"/>
          <p:cNvPicPr/>
          <p:nvPr/>
        </p:nvPicPr>
        <p:blipFill>
          <a:blip r:embed="rId6"/>
          <a:stretch/>
        </p:blipFill>
        <p:spPr>
          <a:xfrm>
            <a:off x="6500880" y="4214880"/>
            <a:ext cx="2144520" cy="2387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7"/>
          <a:stretch/>
        </p:blipFill>
        <p:spPr>
          <a:xfrm>
            <a:off x="3571920" y="4143240"/>
            <a:ext cx="220644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9200"/>
                            </p:stCondLst>
                            <p:childTnLst>
                              <p:par>
                                <p:cTn id="4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1200"/>
                            </p:stCondLst>
                            <p:childTnLst>
                              <p:par>
                                <p:cTn id="4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200"/>
                            </p:stCondLst>
                            <p:childTnLst>
                              <p:par>
                                <p:cTn id="4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3200"/>
                            </p:stCondLst>
                            <p:childTnLst>
                              <p:par>
                                <p:cTn id="4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4200"/>
                            </p:stCondLst>
                            <p:childTnLst>
                              <p:par>
                                <p:cTn id="4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200"/>
                            </p:stCondLst>
                            <p:childTnLst>
                              <p:par>
                                <p:cTn id="4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44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6 июня 1799 го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pushkin_04.jpg"/>
          <p:cNvPicPr/>
          <p:nvPr/>
        </p:nvPicPr>
        <p:blipFill>
          <a:blip r:embed="rId2"/>
          <a:stretch/>
        </p:blipFill>
        <p:spPr>
          <a:xfrm>
            <a:off x="4770360" y="642960"/>
            <a:ext cx="4183200" cy="5452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7"/>
          <p:cNvSpPr/>
          <p:nvPr/>
        </p:nvSpPr>
        <p:spPr>
          <a:xfrm>
            <a:off x="4500720" y="6286680"/>
            <a:ext cx="45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ушкин-ребенок. 1800-18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600"/>
                            </p:stCondLst>
                            <p:childTnLst>
                              <p:par>
                                <p:cTn id="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14200" y="0"/>
            <a:ext cx="871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Забота и любовь Арины Родионовны скрашивали поэту ссылку.  Пушкин по-настоящему крепко любил свою няню и написал несколько трогательных стихотворений, к ней обраще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3238200" cy="4354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5"/>
          <p:cNvSpPr/>
          <p:nvPr/>
        </p:nvSpPr>
        <p:spPr>
          <a:xfrm>
            <a:off x="642960" y="592920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Иллю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к стихотво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3786120" y="1500120"/>
            <a:ext cx="514368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Наша ветхая лачу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И печальна и тем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Что же ты, моя старуш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Приумолкла у ок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Или бури завыв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Ты, мой друг, утомле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Или дремлешь под жужжань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Своего верет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Выпьем, добрая подруж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Бедной юности мое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Выпьем с горя; где же кружк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Сердцу будет вес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Спой мне песню, как син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Тихо за морем жи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Спой мне песню, как деви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За водой поутру шл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А.С.Пушкин «Зимний вече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0"/>
                            </p:stCondLst>
                            <p:childTnLst>
                              <p:par>
                                <p:cTn id="50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4"/>
          <p:cNvSpPr/>
          <p:nvPr/>
        </p:nvSpPr>
        <p:spPr>
          <a:xfrm flipH="1">
            <a:off x="5286240" y="714240"/>
            <a:ext cx="350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Чуть более двух лет длилась ссылка в Михайловское. Она закончилась в сентябре 1826 года. Пушкин вернулся в Моск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В мае 1829 г. он посватался в Москве к юной красавице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Наталии Николаевне Гончаро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" descr="C:\Documents and Settings\Admin\Рабочий стол\Пушкин\pushkina_n_n.jpg"/>
          <p:cNvPicPr/>
          <p:nvPr/>
        </p:nvPicPr>
        <p:blipFill>
          <a:blip r:embed="rId2"/>
          <a:stretch/>
        </p:blipFill>
        <p:spPr>
          <a:xfrm>
            <a:off x="357120" y="285840"/>
            <a:ext cx="4810320" cy="59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3"/>
          <p:cNvSpPr/>
          <p:nvPr/>
        </p:nvSpPr>
        <p:spPr>
          <a:xfrm>
            <a:off x="214200" y="3811680"/>
            <a:ext cx="871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Не получив определенного ответа от Гончаровой, он без разрешения властей сразу самовольно уехал на Кавказ. Это путешествие по Военно-Грузинской дороге, яркие впечатления и многочисленные встречи с друзьями, участие в военных действиях русской армии, взявшей Арзрум, Пушкин описал в автобиографическом произведе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"Путешествие в Арзрум" (1829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mhtml:file://C:\Documents%20and%20Settings\Admin\Рабочий%20стол\пушкин1\Яндекс.Картинки_%20кавказ2.mht!http://www.bestphotos.ru/data/media/10/_MG_0980.jpg"/>
          <p:cNvPicPr/>
          <p:nvPr/>
        </p:nvPicPr>
        <p:blipFill>
          <a:blip r:embed="rId2"/>
          <a:stretch/>
        </p:blipFill>
        <p:spPr>
          <a:xfrm>
            <a:off x="1714680" y="214200"/>
            <a:ext cx="552420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3"/>
          <p:cNvSpPr/>
          <p:nvPr/>
        </p:nvSpPr>
        <p:spPr>
          <a:xfrm>
            <a:off x="4214880" y="301680"/>
            <a:ext cx="47149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6 мая 1830 г. состоялась. наконец, помолвка Пушкина с Натальей Гончаровой. Отец выделил ему деревеньку Кистеневку с 200 душами крестьян, расположенную в Нижегородской губернии, вблизи от отцовского имения с.Болдино. Поэт отправился туда, однако начавшаяся в Москве эпидемия холеры и расставленные повсюду карантины задержали Пушкина в Болдин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с 7 сентября по 2 декабр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1830 г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Bookman Old Style"/>
              </a:rPr>
              <a:t>В Болдинскую осень талант Пушкина достиг полного расцве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C:\Documents and Settings\Admin\Рабочий стол\Пушкин\boldino_02.jpg"/>
          <p:cNvPicPr/>
          <p:nvPr/>
        </p:nvPicPr>
        <p:blipFill>
          <a:blip r:embed="rId2"/>
          <a:stretch/>
        </p:blipFill>
        <p:spPr>
          <a:xfrm>
            <a:off x="214200" y="357120"/>
            <a:ext cx="3949920" cy="2786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Documents and Settings\Admin\Рабочий стол\Пушкин\boldino_01.jpg"/>
          <p:cNvPicPr/>
          <p:nvPr/>
        </p:nvPicPr>
        <p:blipFill>
          <a:blip r:embed="rId3"/>
          <a:stretch/>
        </p:blipFill>
        <p:spPr>
          <a:xfrm>
            <a:off x="214200" y="3643200"/>
            <a:ext cx="39290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3"/>
          <p:cNvSpPr/>
          <p:nvPr/>
        </p:nvSpPr>
        <p:spPr>
          <a:xfrm>
            <a:off x="4143240" y="28584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это время им были созданы"Повести Белкина", "Маленькие трагедии": "Скупой рыцарь", "Моцарт и Сальери", "Каменный гость", "Пир во время чумы", поэма "Домик в Коломне", закончен весь роман "Евгений Онегин" (кроме письма Онегина), повесть "История села Горюхина", "Сказка о попе и работнике его Балде", критические статьи, множество стихотво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E:\новое\новое\boldino_21.jpg"/>
          <p:cNvPicPr/>
          <p:nvPr/>
        </p:nvPicPr>
        <p:blipFill>
          <a:blip r:embed="rId2"/>
          <a:stretch/>
        </p:blipFill>
        <p:spPr>
          <a:xfrm>
            <a:off x="428760" y="285840"/>
            <a:ext cx="3697200" cy="59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929040" y="214200"/>
            <a:ext cx="4929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18 февраля 1831 г. в церкви Вознесения Господня состоялось его венчание с Н.Н.Гончаровой. Первые месяцы семейной жизни он провел с женой в Москве, сняв квартиру на Арба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Москва. Арбат, 35. Мемориальный отдел Государственного музея Пушкина - Квартира А.С. Пушкина на Арбате."/>
          <p:cNvPicPr/>
          <p:nvPr/>
        </p:nvPicPr>
        <p:blipFill>
          <a:blip r:embed="rId2"/>
          <a:stretch/>
        </p:blipFill>
        <p:spPr>
          <a:xfrm>
            <a:off x="285840" y="285840"/>
            <a:ext cx="3581280" cy="24289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760680" y="2857680"/>
            <a:ext cx="25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Квартира Пушки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в Москве на Арб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357120" y="4000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С середины октября 1831 г. и уже до конца жизни Пушкин с семьей живет в Петербург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Последняя квартира А.С. Пушкина на Набережной Мойки, 12, в Петербурге."/>
          <p:cNvPicPr/>
          <p:nvPr/>
        </p:nvPicPr>
        <p:blipFill>
          <a:blip r:embed="rId3"/>
          <a:stretch/>
        </p:blipFill>
        <p:spPr>
          <a:xfrm>
            <a:off x="5143680" y="3357720"/>
            <a:ext cx="3539880" cy="22143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9"/>
          <p:cNvSpPr/>
          <p:nvPr/>
        </p:nvSpPr>
        <p:spPr>
          <a:xfrm>
            <a:off x="5468040" y="5643720"/>
            <a:ext cx="261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Квартира Пушкин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Петербурге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Набережной Мой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E:\новое\новое\pushkin_a_a.jpg"/>
          <p:cNvPicPr/>
          <p:nvPr/>
        </p:nvPicPr>
        <p:blipFill>
          <a:blip r:embed="rId2"/>
          <a:stretch/>
        </p:blipFill>
        <p:spPr>
          <a:xfrm>
            <a:off x="2571840" y="3857760"/>
            <a:ext cx="1942920" cy="271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E:\новое\новое\pushkin_g_a.jpg"/>
          <p:cNvPicPr/>
          <p:nvPr/>
        </p:nvPicPr>
        <p:blipFill>
          <a:blip r:embed="rId3"/>
          <a:stretch/>
        </p:blipFill>
        <p:spPr>
          <a:xfrm>
            <a:off x="4857840" y="3759120"/>
            <a:ext cx="1762200" cy="274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E:\новое\новое\pushkina_m_a.jpg"/>
          <p:cNvPicPr/>
          <p:nvPr/>
        </p:nvPicPr>
        <p:blipFill>
          <a:blip r:embed="rId4"/>
          <a:stretch/>
        </p:blipFill>
        <p:spPr>
          <a:xfrm>
            <a:off x="2500200" y="214200"/>
            <a:ext cx="2000520" cy="2951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7"/>
          <p:cNvSpPr/>
          <p:nvPr/>
        </p:nvSpPr>
        <p:spPr>
          <a:xfrm>
            <a:off x="214200" y="928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ария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Пушкина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8"/>
          <p:cNvSpPr/>
          <p:nvPr/>
        </p:nvSpPr>
        <p:spPr>
          <a:xfrm>
            <a:off x="214200" y="4357800"/>
            <a:ext cx="221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Александрович Пушкин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10"/>
          <p:cNvSpPr/>
          <p:nvPr/>
        </p:nvSpPr>
        <p:spPr>
          <a:xfrm>
            <a:off x="6715080" y="44290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Александрович Пушкин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E:\новое\новое\pushkina_n_a.jpg"/>
          <p:cNvPicPr/>
          <p:nvPr/>
        </p:nvPicPr>
        <p:blipFill>
          <a:blip r:embed="rId5"/>
          <a:stretch/>
        </p:blipFill>
        <p:spPr>
          <a:xfrm>
            <a:off x="4572000" y="357120"/>
            <a:ext cx="2127240" cy="271476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12"/>
          <p:cNvSpPr/>
          <p:nvPr/>
        </p:nvSpPr>
        <p:spPr>
          <a:xfrm>
            <a:off x="6786720" y="85716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Александровна Пушкина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373320" y="3357720"/>
            <a:ext cx="830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i="1" lang="en-US" sz="2200" spc="-1" strike="noStrike">
                <a:solidFill>
                  <a:srgbClr val="000000"/>
                </a:solidFill>
                <a:latin typeface="Bookman Old Style"/>
              </a:rPr>
              <a:t>У А.С.Пушкина и Натальи Гончаровой было четверо дет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920"/>
                            </p:stCondLst>
                            <p:childTnLst>
                              <p:par>
                                <p:cTn id="6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692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192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6920"/>
                            </p:stCondLst>
                            <p:childTnLst>
                              <p:par>
                                <p:cTn id="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3643200" y="785880"/>
            <a:ext cx="500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В начале 1834 г. в Петербурге появился француз барон Дантес. Он влюбился в жену Пушкина и ст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за ней ухажи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C:\Documents and Settings\Admin\Рабочий стол\Пушкин\dantes_h167.jpg"/>
          <p:cNvPicPr/>
          <p:nvPr/>
        </p:nvPicPr>
        <p:blipFill>
          <a:blip r:embed="rId2"/>
          <a:stretch/>
        </p:blipFill>
        <p:spPr>
          <a:xfrm>
            <a:off x="714240" y="357120"/>
            <a:ext cx="2571840" cy="28638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447840" y="35002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214200" y="407196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C:\Documents and Settings\Admin\Рабочий стол\Пушкин\Duel_of_Pushlin_and_dAnthes_Naumov1850.jpg"/>
          <p:cNvPicPr/>
          <p:nvPr/>
        </p:nvPicPr>
        <p:blipFill>
          <a:blip r:embed="rId3"/>
          <a:stretch/>
        </p:blipFill>
        <p:spPr>
          <a:xfrm>
            <a:off x="4786200" y="3786120"/>
            <a:ext cx="40291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76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8760"/>
                            </p:stCondLst>
                            <p:childTnLst>
                              <p:par>
                                <p:cTn id="7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3320"/>
                            </p:stCondLst>
                            <p:childTnLst>
                              <p:par>
                                <p:cTn id="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4"/>
          <p:cNvSpPr/>
          <p:nvPr/>
        </p:nvSpPr>
        <p:spPr>
          <a:xfrm>
            <a:off x="5357880" y="428760"/>
            <a:ext cx="3429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Прожив 2 д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в страшных мучения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Пушкин сконча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10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1837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"Солнце русской поэзии закатилось",- написа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В. Жу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C:\Documents and Settings\Admin\Рабочий стол\пушкин1\image001.jpg"/>
          <p:cNvPicPr/>
          <p:nvPr/>
        </p:nvPicPr>
        <p:blipFill>
          <a:blip r:embed="rId2"/>
          <a:stretch/>
        </p:blipFill>
        <p:spPr>
          <a:xfrm>
            <a:off x="214200" y="357120"/>
            <a:ext cx="506736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7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оугольник 5"/>
          <p:cNvSpPr/>
          <p:nvPr/>
        </p:nvSpPr>
        <p:spPr>
          <a:xfrm>
            <a:off x="0" y="14292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мерть поэта с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началом его бессмертной славы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C:\Documents and Settings\Admin\Рабочий стол\Пушкин\220px-____.jpg"/>
          <p:cNvPicPr/>
          <p:nvPr/>
        </p:nvPicPr>
        <p:blipFill>
          <a:blip r:embed="rId2"/>
          <a:stretch/>
        </p:blipFill>
        <p:spPr>
          <a:xfrm>
            <a:off x="285840" y="928800"/>
            <a:ext cx="2205000" cy="3236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C:\Documents and Settings\Admin\Рабочий стол\Пушкин\244px-Pushkin_Goncharova_Arbat_2005.jpg"/>
          <p:cNvPicPr/>
          <p:nvPr/>
        </p:nvPicPr>
        <p:blipFill>
          <a:blip r:embed="rId3"/>
          <a:stretch/>
        </p:blipFill>
        <p:spPr>
          <a:xfrm>
            <a:off x="6572160" y="1071720"/>
            <a:ext cx="2160720" cy="3286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C:\Documents and Settings\Admin\Рабочий стол\Пушкин\256px-Pushkin_monument_Uralsk.JPG"/>
          <p:cNvPicPr/>
          <p:nvPr/>
        </p:nvPicPr>
        <p:blipFill>
          <a:blip r:embed="rId4"/>
          <a:stretch/>
        </p:blipFill>
        <p:spPr>
          <a:xfrm>
            <a:off x="2928960" y="4643280"/>
            <a:ext cx="2714760" cy="203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Documents and Settings\Admin\Рабочий стол\Пушкин\270px-Bust_pushkinu.jpg"/>
          <p:cNvPicPr/>
          <p:nvPr/>
        </p:nvPicPr>
        <p:blipFill>
          <a:blip r:embed="rId5"/>
          <a:stretch/>
        </p:blipFill>
        <p:spPr>
          <a:xfrm>
            <a:off x="2928960" y="1500120"/>
            <a:ext cx="3238560" cy="2435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C:\Documents and Settings\Admin\Рабочий стол\Пушкин\120px-Pushkin.jpg"/>
          <p:cNvPicPr/>
          <p:nvPr/>
        </p:nvPicPr>
        <p:blipFill>
          <a:blip r:embed="rId6"/>
          <a:stretch/>
        </p:blipFill>
        <p:spPr>
          <a:xfrm>
            <a:off x="571680" y="4357800"/>
            <a:ext cx="1698480" cy="2289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C:\Documents and Settings\Admin\Рабочий стол\Пушкин\131px-PushkinCoin.jpg"/>
          <p:cNvPicPr/>
          <p:nvPr/>
        </p:nvPicPr>
        <p:blipFill>
          <a:blip r:embed="rId7"/>
          <a:stretch/>
        </p:blipFill>
        <p:spPr>
          <a:xfrm>
            <a:off x="6572160" y="4714920"/>
            <a:ext cx="18241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1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204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040"/>
                            </p:stCondLst>
                            <p:childTnLst>
                              <p:par>
                                <p:cTn id="7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2040"/>
                            </p:stCondLst>
                            <p:childTnLst>
                              <p:par>
                                <p:cTn id="7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7040"/>
                            </p:stCondLst>
                            <p:childTnLst>
                              <p:par>
                                <p:cTn id="7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2204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7040"/>
                            </p:stCondLst>
                            <p:childTnLst>
                              <p:par>
                                <p:cTn id="7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pushkin_s_l.jpg"/>
          <p:cNvPicPr/>
          <p:nvPr/>
        </p:nvPicPr>
        <p:blipFill>
          <a:blip r:embed="rId2"/>
          <a:stretch/>
        </p:blipFill>
        <p:spPr>
          <a:xfrm>
            <a:off x="155520" y="571680"/>
            <a:ext cx="4324320" cy="542916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57800" y="214200"/>
            <a:ext cx="457200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Bookman Old Style"/>
              </a:rPr>
              <a:t>Отец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u="sng">
                <a:solidFill>
                  <a:srgbClr val="000000"/>
                </a:solidFill>
                <a:uFillTx/>
                <a:latin typeface="Bookman Old Style"/>
              </a:rPr>
              <a:t>Сергей Львович</a:t>
            </a:r>
            <a:r>
              <a:rPr b="0" i="1" lang="en-US" sz="3400" spc="-1" strike="noStrike">
                <a:solidFill>
                  <a:srgbClr val="000000"/>
                </a:solidFill>
                <a:latin typeface="Bookman Old Style"/>
              </a:rPr>
              <a:t>, небогатый помещик, человек образованный, хорошо знал литературу,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Bookman Old Style"/>
              </a:rPr>
              <a:t>был знаком со многими русскими писателями и сам немного писа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614376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С.Л. Пушкин. 18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E:\новое\новое\pushkin_04.jpg"/>
          <p:cNvPicPr/>
          <p:nvPr/>
        </p:nvPicPr>
        <p:blipFill>
          <a:blip r:embed="rId2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E:\новое\новое\pushkin_1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E:\новое\новое\pushkin_21.jpg"/>
          <p:cNvPicPr/>
          <p:nvPr/>
        </p:nvPicPr>
        <p:blipFill>
          <a:blip r:embed="rId4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E:\новое\новое\pushkin_24.jpg"/>
          <p:cNvPicPr/>
          <p:nvPr/>
        </p:nvPicPr>
        <p:blipFill>
          <a:blip r:embed="rId5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Documents and Settings\Admin\Рабочий стол\Пушкин\pushkin_06.jpg"/>
          <p:cNvPicPr/>
          <p:nvPr/>
        </p:nvPicPr>
        <p:blipFill>
          <a:blip r:embed="rId6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Documents and Settings\Admin\Рабочий стол\Пушкин\683.jpg"/>
          <p:cNvPicPr/>
          <p:nvPr/>
        </p:nvPicPr>
        <p:blipFill>
          <a:blip r:embed="rId7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Documents and Settings\Admin\Рабочий стол\пушкин1\image001.jpg"/>
          <p:cNvPicPr/>
          <p:nvPr/>
        </p:nvPicPr>
        <p:blipFill>
          <a:blip r:embed="rId8"/>
          <a:stretch/>
        </p:blipFill>
        <p:spPr>
          <a:xfrm>
            <a:off x="4500720" y="285840"/>
            <a:ext cx="443520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5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7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8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5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53840" y="314064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ы скачали эту презентацию на сайте - viki.rdf.ru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9080" y="501336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Яковлева Елена Пет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лицей №6 г.Ива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pushkina_n_o.jpg"/>
          <p:cNvPicPr/>
          <p:nvPr/>
        </p:nvPicPr>
        <p:blipFill>
          <a:blip r:embed="rId2"/>
          <a:stretch/>
        </p:blipFill>
        <p:spPr>
          <a:xfrm>
            <a:off x="214200" y="357120"/>
            <a:ext cx="3452760" cy="3870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3786120" y="142920"/>
            <a:ext cx="5214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Мать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 u="sng">
                <a:solidFill>
                  <a:srgbClr val="000000"/>
                </a:solidFill>
                <a:uFillTx/>
                <a:latin typeface="Bookman Old Style"/>
              </a:rPr>
              <a:t>Надежда Осиповна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приходилась внучкой арапу Петра </a:t>
            </a:r>
            <a:r>
              <a:rPr b="0" i="1" lang="en-US" sz="31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3100" spc="-1" strike="noStrike">
                <a:solidFill>
                  <a:srgbClr val="000000"/>
                </a:solidFill>
                <a:latin typeface="Bookman Old Style"/>
              </a:rPr>
              <a:t>, впоследствии русскому генералу Ганнибалу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14200" y="4500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gannibal_a_p.jpg"/>
          <p:cNvPicPr/>
          <p:nvPr/>
        </p:nvPicPr>
        <p:blipFill>
          <a:blip r:embed="rId3"/>
          <a:stretch/>
        </p:blipFill>
        <p:spPr>
          <a:xfrm>
            <a:off x="3786120" y="3071880"/>
            <a:ext cx="2571840" cy="3217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6215040" y="3571920"/>
            <a:ext cx="2714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Прадедуш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Абрам Петрович Ганниб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"Арап Петра Велико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3714840" y="62866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А.П. Ганниб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Documents and Settings\Admin\Рабочий стол\Пушкин\pushkin_l_s.jpg"/>
          <p:cNvPicPr/>
          <p:nvPr/>
        </p:nvPicPr>
        <p:blipFill>
          <a:blip r:embed="rId2"/>
          <a:stretch/>
        </p:blipFill>
        <p:spPr>
          <a:xfrm>
            <a:off x="6000840" y="214200"/>
            <a:ext cx="2871720" cy="3714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Admin\Рабочий стол\Пушкин\pavlischeva_o_s.jpg"/>
          <p:cNvPicPr/>
          <p:nvPr/>
        </p:nvPicPr>
        <p:blipFill>
          <a:blip r:embed="rId3"/>
          <a:stretch/>
        </p:blipFill>
        <p:spPr>
          <a:xfrm>
            <a:off x="214200" y="214200"/>
            <a:ext cx="3114720" cy="357192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3214800" y="214200"/>
            <a:ext cx="285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етей в семье Пушкиных было трое. Старшая -Ольга,  второй  - Александр и младший – Лёвушка, любимец сем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Documents and Settings\Admin\Рабочий стол\Пушкин\pushkin_11.jpg"/>
          <p:cNvPicPr/>
          <p:nvPr/>
        </p:nvPicPr>
        <p:blipFill>
          <a:blip r:embed="rId4"/>
          <a:stretch/>
        </p:blipFill>
        <p:spPr>
          <a:xfrm>
            <a:off x="3643200" y="350028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354240" y="385776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Ольга Серге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6069960" y="4071960"/>
            <a:ext cx="27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е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357280" y="614376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анд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Серге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Admin\Рабочий стол\Пушкин\gannibal_m_a.jpg"/>
          <p:cNvPicPr/>
          <p:nvPr/>
        </p:nvPicPr>
        <p:blipFill>
          <a:blip r:embed="rId2"/>
          <a:stretch/>
        </p:blipFill>
        <p:spPr>
          <a:xfrm>
            <a:off x="785880" y="214200"/>
            <a:ext cx="2724120" cy="3808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Admin\Рабочий стол\пушкин1\arina.jpg"/>
          <p:cNvPicPr/>
          <p:nvPr/>
        </p:nvPicPr>
        <p:blipFill>
          <a:blip r:embed="rId3"/>
          <a:stretch/>
        </p:blipFill>
        <p:spPr>
          <a:xfrm>
            <a:off x="5786280" y="285840"/>
            <a:ext cx="2519640" cy="3714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6"/>
          <p:cNvSpPr/>
          <p:nvPr/>
        </p:nvSpPr>
        <p:spPr>
          <a:xfrm>
            <a:off x="142920" y="4857840"/>
            <a:ext cx="885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Любовь к родному языку маленькому Пушкину привили бабушка, Мария Алексеевна Ганнибал, превосходно говорившая и писавшая по-русски, 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няня Арина Родионовн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3280" y="4000680"/>
            <a:ext cx="30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Ганниба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Мар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5424480" y="3929040"/>
            <a:ext cx="300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Яковлев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Арин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Родион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C:\Documents and Settings\Admin\Рабочий стол\Пушкин\180px-.jpg"/>
          <p:cNvPicPr/>
          <p:nvPr/>
        </p:nvPicPr>
        <p:blipFill>
          <a:blip r:embed="rId2"/>
          <a:stretch/>
        </p:blipFill>
        <p:spPr>
          <a:xfrm>
            <a:off x="214200" y="857160"/>
            <a:ext cx="34578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7"/>
          <p:cNvSpPr/>
          <p:nvPr/>
        </p:nvSpPr>
        <p:spPr>
          <a:xfrm>
            <a:off x="3714840" y="214200"/>
            <a:ext cx="52149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В 12 лет Александр был отвезен учиться в новое, только что открывшее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19 октября 1811 г. 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учебное заведение -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Bookman Old Style"/>
              </a:rPr>
              <a:t>Царскосельский Лицей </a:t>
            </a:r>
            <a:r>
              <a:rPr b="0" i="1" lang="en-US" sz="3200" spc="-1" strike="noStrike">
                <a:solidFill>
                  <a:srgbClr val="000000"/>
                </a:solidFill>
                <a:latin typeface="Bookman Old Style"/>
              </a:rPr>
              <a:t>под Петербургом, место, где располагалась летняя резиденция русских императ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3"/>
          <p:cNvSpPr/>
          <p:nvPr/>
        </p:nvSpPr>
        <p:spPr>
          <a:xfrm>
            <a:off x="4786200" y="0"/>
            <a:ext cx="4143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Bookman Old Style"/>
              </a:rPr>
              <a:t>Императорский Царскосельский Лицей был создан для образования и воспитания юношества, предназначенного к «важнейшим частям службы Государственной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slide0010_image025"/>
          <p:cNvPicPr/>
          <p:nvPr/>
        </p:nvPicPr>
        <p:blipFill>
          <a:blip r:embed="rId2"/>
          <a:stretch/>
        </p:blipFill>
        <p:spPr>
          <a:xfrm>
            <a:off x="5286240" y="3286080"/>
            <a:ext cx="3651480" cy="3416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214200" y="214200"/>
            <a:ext cx="4535640" cy="2857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214200" y="3143160"/>
            <a:ext cx="507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своих правах Лицей приравнивался к российским университетам и находился под особым покровительством Александра 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I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. В Лицей принимали дворянских мальчиков 10-12 лет по результатам вступительных экзаме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3"/>
          <p:cNvSpPr/>
          <p:nvPr/>
        </p:nvSpPr>
        <p:spPr>
          <a:xfrm>
            <a:off x="214200" y="4643280"/>
            <a:ext cx="8715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Учебный год в Царскосельском Лицее продолжался </a:t>
            </a: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Bookman Old Style"/>
              </a:rPr>
              <a:t>11 месяцев, с 1 августа по 1 июля. </a:t>
            </a:r>
            <a:r>
              <a:rPr b="0" i="1" lang="en-US" sz="2600" spc="-1" strike="noStrike">
                <a:solidFill>
                  <a:srgbClr val="000000"/>
                </a:solidFill>
                <a:latin typeface="Bookman Old Style"/>
              </a:rPr>
              <a:t>Лицей был закрытым заведением. В течение всего периода обучения воспитанники не имели права покидать пределов Царского Се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Картинка 1 из 5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57200" y="214200"/>
            <a:ext cx="65725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Admin</cp:lastModifiedBy>
  <dcterms:modified xsi:type="dcterms:W3CDTF">2009-08-18T12:36:49Z</dcterms:modified>
  <cp:revision>74</cp:revision>
  <dc:subject/>
  <dc:title>Слайд 1</dc:title>
</cp:coreProperties>
</file>